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glass.wav" ContentType="audio/x-wav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954838" cy="93091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BA179-D737-4305-B82D-EC91A74C1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566720" y="2693520"/>
            <a:ext cx="6662880" cy="142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1566720" y="4257720"/>
            <a:ext cx="6662880" cy="142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AD058-75CD-4803-ABD6-8F19F5FD9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566720" y="2693520"/>
            <a:ext cx="3251160" cy="142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980960" y="2693520"/>
            <a:ext cx="3251160" cy="142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566720" y="4257720"/>
            <a:ext cx="3251160" cy="142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980960" y="4257720"/>
            <a:ext cx="3251160" cy="142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27370-4E68-4506-BE09-AD1945372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66720" y="2693520"/>
            <a:ext cx="2145240" cy="142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19600" y="2693520"/>
            <a:ext cx="2145240" cy="142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72480" y="2693520"/>
            <a:ext cx="2145240" cy="142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1566720" y="4257720"/>
            <a:ext cx="2145240" cy="142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819600" y="4257720"/>
            <a:ext cx="2145240" cy="142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072480" y="4257720"/>
            <a:ext cx="2145240" cy="142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26686-D3DE-4C0C-AECD-598852A04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5C357-D557-446E-B557-5D12644FC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1566720" y="2693520"/>
            <a:ext cx="6662880" cy="29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A9646-58F5-4C2C-A2F3-11FC7F077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566720" y="2693520"/>
            <a:ext cx="6662880" cy="299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98600-3DE3-4DA5-89CD-8D89E7A83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566720" y="2693520"/>
            <a:ext cx="3251160" cy="299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980960" y="2693520"/>
            <a:ext cx="3251160" cy="299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B7409-BE37-400B-BD4B-AE6E7409F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5B776-FEE1-4690-8DC9-9A41F97B5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1169640" y="1045800"/>
            <a:ext cx="7380360" cy="46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79D13-1FD8-4DAE-B8F7-CBAFF96EB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566720" y="2693520"/>
            <a:ext cx="3251160" cy="142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980960" y="2693520"/>
            <a:ext cx="3251160" cy="299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1566720" y="4257720"/>
            <a:ext cx="3251160" cy="142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C43D6-BAF6-4EE9-A594-D629AA56F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566720" y="2693520"/>
            <a:ext cx="6662880" cy="29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C3D51-19FD-409E-9B31-0E28518B3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566720" y="2693520"/>
            <a:ext cx="3251160" cy="299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980960" y="2693520"/>
            <a:ext cx="3251160" cy="142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980960" y="4257720"/>
            <a:ext cx="3251160" cy="142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79A19-57E7-4F5A-BFEE-03DAA9127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1566720" y="2693520"/>
            <a:ext cx="3251160" cy="142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980960" y="2693520"/>
            <a:ext cx="3251160" cy="142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1566720" y="4257720"/>
            <a:ext cx="6662880" cy="142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6C713-E5B8-4443-ADC0-42E0B136B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566720" y="2693520"/>
            <a:ext cx="6662880" cy="142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1566720" y="4257720"/>
            <a:ext cx="6662880" cy="142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833F8-8CE9-4B10-808C-A38F405C8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66720" y="2693520"/>
            <a:ext cx="3251160" cy="142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980960" y="2693520"/>
            <a:ext cx="3251160" cy="142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1566720" y="4257720"/>
            <a:ext cx="3251160" cy="142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980960" y="4257720"/>
            <a:ext cx="3251160" cy="142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D39CA-A980-4907-AE4D-BFE0F8C7D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566720" y="2693520"/>
            <a:ext cx="2145240" cy="142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819600" y="2693520"/>
            <a:ext cx="2145240" cy="142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072480" y="2693520"/>
            <a:ext cx="2145240" cy="142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1566720" y="4257720"/>
            <a:ext cx="2145240" cy="142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819600" y="4257720"/>
            <a:ext cx="2145240" cy="142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072480" y="4257720"/>
            <a:ext cx="2145240" cy="142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24DE8-9D2A-49EB-A414-8ECAD4362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566720" y="2693520"/>
            <a:ext cx="6662880" cy="299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FEF34-4590-49CA-BC50-93DE74E74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566720" y="2693520"/>
            <a:ext cx="3251160" cy="299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980960" y="2693520"/>
            <a:ext cx="3251160" cy="299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67B41-57B2-4C29-860B-C1B61D5C0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CC973-D514-4598-AEA2-21CF11E81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169640" y="1045800"/>
            <a:ext cx="7380360" cy="46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AF38F-FB0F-4251-96FD-FD250B5AD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566720" y="2693520"/>
            <a:ext cx="3251160" cy="142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980960" y="2693520"/>
            <a:ext cx="3251160" cy="299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566720" y="4257720"/>
            <a:ext cx="3251160" cy="142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50320-EEB3-4220-9210-0D0DED8C1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566720" y="2693520"/>
            <a:ext cx="3251160" cy="299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980960" y="2693520"/>
            <a:ext cx="3251160" cy="142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980960" y="4257720"/>
            <a:ext cx="3251160" cy="142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C6FD2-ED95-41F0-B2F8-1D7EC2F2C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566720" y="2693520"/>
            <a:ext cx="3251160" cy="142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80960" y="2693520"/>
            <a:ext cx="3251160" cy="142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566720" y="4257720"/>
            <a:ext cx="6662880" cy="142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5E089-1DD8-4B64-A70E-BE8F88A4B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8400"/>
            <a:ext cx="8915400" cy="6713280"/>
            <a:chOff x="0" y="68400"/>
            <a:chExt cx="8915400" cy="6713280"/>
          </a:xfrm>
        </p:grpSpPr>
        <p:grpSp>
          <p:nvGrpSpPr>
            <p:cNvPr id="1" name=""/>
            <p:cNvGrpSpPr/>
            <p:nvPr/>
          </p:nvGrpSpPr>
          <p:grpSpPr>
            <a:xfrm>
              <a:off x="0" y="68400"/>
              <a:ext cx="647640" cy="6713280"/>
              <a:chOff x="0" y="68400"/>
              <a:chExt cx="647640" cy="671328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6672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672948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781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652932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6453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660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58197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57769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63817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6181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6053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6348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5853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59389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6253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6219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55720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56293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5681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54291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53532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500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47196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4676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52815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508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0" y="49528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0" y="52484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0" y="47530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0" y="4838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0" y="515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0" y="51195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0" y="449424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0" y="43657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0" y="4251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0" y="4565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0" y="45324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0" y="4054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0" y="4111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0" y="41641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0" y="391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0" y="3835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0" y="398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0" y="3763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0" y="35640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0" y="37306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0" y="36352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0" y="36021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0" y="3381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0" y="3438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3490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0" y="3238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3162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0" y="3309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0" y="25290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24861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309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2890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762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3057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621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6478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0" y="29624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0" y="29289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0" y="2281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0" y="2338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0" y="23907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0" y="21384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0" y="22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0" y="16128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0" y="1569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0" y="19749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0" y="1846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0" y="1646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0" y="17319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0" y="20462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0" y="2013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0" y="1365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0" y="1422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0" y="1474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0" y="12222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0" y="1293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0" y="1139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10256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828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885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9381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0" y="685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0" y="6094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0" y="7570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0" y="538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0" y="504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0" y="4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0" y="111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0" y="6840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0" y="144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0" y="230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0" y="320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635040" y="325440"/>
              <a:ext cx="8280360" cy="1782720"/>
              <a:chOff x="635040" y="325440"/>
              <a:chExt cx="8280360" cy="1782720"/>
            </a:xfrm>
          </p:grpSpPr>
          <p:sp>
            <p:nvSpPr>
              <p:cNvPr id="101" name=""/>
              <p:cNvSpPr/>
              <p:nvPr/>
            </p:nvSpPr>
            <p:spPr>
              <a:xfrm>
                <a:off x="884160" y="325440"/>
                <a:ext cx="496800" cy="145080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35040" y="4572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300800" y="1770120"/>
                <a:ext cx="1474920" cy="33804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252960" y="19224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1020600" indent="-21456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1342800" indent="-214560">
              <a:spcBef>
                <a:spcPts val="7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1"/>
          </p:nvPr>
        </p:nvSpPr>
        <p:spPr>
          <a:xfrm>
            <a:off x="809640" y="6373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2"/>
          </p:nvPr>
        </p:nvSpPr>
        <p:spPr>
          <a:xfrm>
            <a:off x="3131640" y="6377040"/>
            <a:ext cx="3086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3"/>
          </p:nvPr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2C19C-02FF-4A89-93BB-5A65C9F78D2B}" type="slidenum"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"/>
          <p:cNvGrpSpPr/>
          <p:nvPr/>
        </p:nvGrpSpPr>
        <p:grpSpPr>
          <a:xfrm>
            <a:off x="0" y="68400"/>
            <a:ext cx="8678880" cy="6713280"/>
            <a:chOff x="0" y="68400"/>
            <a:chExt cx="8678880" cy="6713280"/>
          </a:xfrm>
        </p:grpSpPr>
        <p:sp>
          <p:nvSpPr>
            <p:cNvPr id="147" name=""/>
            <p:cNvSpPr/>
            <p:nvPr/>
          </p:nvSpPr>
          <p:spPr>
            <a:xfrm>
              <a:off x="1098720" y="784080"/>
              <a:ext cx="7580160" cy="14860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148" name=""/>
            <p:cNvGrpSpPr/>
            <p:nvPr/>
          </p:nvGrpSpPr>
          <p:grpSpPr>
            <a:xfrm>
              <a:off x="0" y="68400"/>
              <a:ext cx="990720" cy="6713280"/>
              <a:chOff x="0" y="68400"/>
              <a:chExt cx="990720" cy="6713280"/>
            </a:xfrm>
          </p:grpSpPr>
          <p:sp>
            <p:nvSpPr>
              <p:cNvPr id="149" name=""/>
              <p:cNvSpPr/>
              <p:nvPr/>
            </p:nvSpPr>
            <p:spPr>
              <a:xfrm>
                <a:off x="0" y="6672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0" y="672948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0" y="6781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0" y="652932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0" y="6453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0" y="660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0" y="58197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0" y="57769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0" y="63817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0" y="6181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0" y="6053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0" y="6348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0" y="5853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0" y="59389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0" y="6253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6219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55720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56293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0" y="5681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0" y="54291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0" y="53532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0" y="5500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0" y="47196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0" y="4676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0" y="52815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0" y="508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0" y="49528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0" y="52484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0" y="47530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0" y="4838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0" y="515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0" y="51195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0" y="449424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0" y="43657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0" y="4251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0" y="4565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0" y="45324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0" y="4054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0" y="4111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0" y="41641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0" y="391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0" y="3835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0" y="398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0" y="3763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0" y="35640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0" y="37306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0" y="36352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0" y="36021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0" y="3381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0" y="3438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0" y="3490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0" y="3238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0" y="3162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0" y="3309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0" y="25290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0" y="24861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0" y="309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0" y="2890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0" y="2762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0" y="3057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0" y="25621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0" y="26478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0" y="29624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0" y="29289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0" y="2281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0" y="2338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0" y="23907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0" y="21384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0" y="22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0" y="16128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0" y="1569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0" y="19749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0" y="1846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0" y="1646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0" y="17319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0" y="20462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0" y="2013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0" y="1365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0" y="1422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0" y="1474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0" y="12222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0" y="1293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0" y="1139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0" y="10256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0" y="828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0" y="885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0" y="9381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0" y="685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0" y="6094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0" y="7570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538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0" y="504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0" y="4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0" y="111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0" y="6840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144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0" y="230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0" y="320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7" name="PlaceHolder 1"/>
          <p:cNvSpPr>
            <a:spLocks noGrp="1"/>
          </p:cNvSpPr>
          <p:nvPr>
            <p:ph type="dt" idx="4"/>
          </p:nvPr>
        </p:nvSpPr>
        <p:spPr>
          <a:xfrm>
            <a:off x="1387440" y="63579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ftr" idx="5"/>
          </p:nvPr>
        </p:nvSpPr>
        <p:spPr>
          <a:xfrm>
            <a:off x="3722760" y="6357960"/>
            <a:ext cx="22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6"/>
          </p:nvPr>
        </p:nvSpPr>
        <p:spPr>
          <a:xfrm>
            <a:off x="6464160" y="636120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0E78A-99DC-44E9-9C74-9ACF10DDC33E}" type="slidenum"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017880" y="2120760"/>
            <a:ext cx="5662440" cy="777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098720" y="861840"/>
            <a:ext cx="5662440" cy="781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2" marL="857160" algn="ctr"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3" marL="1200240" algn="ctr">
              <a:spcBef>
                <a:spcPts val="4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4" marL="1542960" algn="ctr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lvl="5" marL="1542960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lvl="6" marL="1542960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glass.wav"/><Relationship Id="rId2" Type="http://schemas.openxmlformats.org/officeDocument/2006/relationships/audio" Target="../media/glass.wav"/><Relationship Id="rId3" Type="http://schemas.openxmlformats.org/officeDocument/2006/relationships/audio" Target="../media/glass.wav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Impulse, Momentum and Conservation of Momentum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1566720" y="2693520"/>
            <a:ext cx="6662880" cy="29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294920" y="609120"/>
            <a:ext cx="7378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Momentum is Conserved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46479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1447920" y="1494000"/>
            <a:ext cx="7086600" cy="5302080"/>
          </a:xfrm>
          <a:prstGeom prst="rect">
            <a:avLst/>
          </a:prstGeom>
          <a:ln w="0">
            <a:noFill/>
          </a:ln>
        </p:spPr>
      </p:pic>
      <p:sp>
        <p:nvSpPr>
          <p:cNvPr id="313" name=""/>
          <p:cNvSpPr/>
          <p:nvPr/>
        </p:nvSpPr>
        <p:spPr>
          <a:xfrm>
            <a:off x="1523880" y="2057400"/>
            <a:ext cx="7086600" cy="520560"/>
          </a:xfrm>
          <a:prstGeom prst="rect">
            <a:avLst/>
          </a:prstGeom>
          <a:solidFill>
            <a:srgbClr val="ccff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TZ student defends school with potato gun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64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3366"/>
                </a:solidFill>
                <a:latin typeface="Times New Roman"/>
              </a:rPr>
              <a:t>Conservation of Momentum</a:t>
            </a:r>
            <a:endParaRPr b="0" lang="en-US" sz="4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838080" y="205740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10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3366"/>
                </a:solidFill>
                <a:uFillTx/>
                <a:latin typeface="Times New Roman"/>
              </a:rPr>
              <a:t>Newton’s Third Law: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10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The potato goes one way and the gun “recoils” in the opposite direction.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10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The gun exerts a force on the potato and the potato exerts an equal but opposite force on the gun, recoil.  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1664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800" spc="-1" strike="noStrike">
                <a:solidFill>
                  <a:srgbClr val="003366"/>
                </a:solidFill>
                <a:latin typeface="Times New Roman"/>
              </a:rPr>
              <a:t>p</a:t>
            </a:r>
            <a:r>
              <a:rPr b="0" lang="en-US" sz="8800" spc="-1" strike="noStrike" baseline="-25000">
                <a:solidFill>
                  <a:srgbClr val="003366"/>
                </a:solidFill>
                <a:latin typeface="Times New Roman"/>
              </a:rPr>
              <a:t>Gun/Girl =</a:t>
            </a:r>
            <a:r>
              <a:rPr b="0" lang="en-US" sz="8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i="1" lang="en-US" sz="8800" spc="-1" strike="noStrike">
                <a:solidFill>
                  <a:srgbClr val="003366"/>
                </a:solidFill>
                <a:latin typeface="Times New Roman"/>
              </a:rPr>
              <a:t>p</a:t>
            </a:r>
            <a:r>
              <a:rPr b="0" lang="en-US" sz="8800" spc="-1" strike="noStrike" baseline="-25000">
                <a:solidFill>
                  <a:srgbClr val="003366"/>
                </a:solidFill>
                <a:latin typeface="Times New Roman"/>
              </a:rPr>
              <a:t>Potato</a:t>
            </a:r>
            <a:endParaRPr b="0" lang="en-US" sz="8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10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These forces produce equal but opposite changes in momentum.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10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Since the girl  is “attached” to the gun, the combination of the girl /gun mass is much greater than the mass of the potato.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10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The girl and the gun recoil at a velocity much smaller than the potato.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3366"/>
                </a:solidFill>
                <a:latin typeface="Times New Roman"/>
              </a:rPr>
              <a:t>If </a:t>
            </a:r>
            <a:r>
              <a:rPr b="0" i="1" lang="en-US" sz="5400" spc="-1" strike="noStrike">
                <a:solidFill>
                  <a:srgbClr val="003366"/>
                </a:solidFill>
                <a:latin typeface="Times New Roman"/>
              </a:rPr>
              <a:t>p</a:t>
            </a:r>
            <a:r>
              <a:rPr b="0" lang="en-US" sz="5400" spc="-1" strike="noStrike" baseline="-25000">
                <a:solidFill>
                  <a:srgbClr val="003366"/>
                </a:solidFill>
                <a:latin typeface="Times New Roman"/>
              </a:rPr>
              <a:t>Gun&amp;Person</a:t>
            </a:r>
            <a:r>
              <a:rPr b="0" lang="en-US" sz="5400" spc="-1" strike="noStrike">
                <a:solidFill>
                  <a:srgbClr val="003366"/>
                </a:solidFill>
                <a:latin typeface="Times New Roman"/>
              </a:rPr>
              <a:t> = </a:t>
            </a:r>
            <a:r>
              <a:rPr b="0" i="1" lang="en-US" sz="5400" spc="-1" strike="noStrike">
                <a:solidFill>
                  <a:srgbClr val="003366"/>
                </a:solidFill>
                <a:latin typeface="Times New Roman"/>
              </a:rPr>
              <a:t>p</a:t>
            </a:r>
            <a:r>
              <a:rPr b="0" lang="en-US" sz="5400" spc="-1" strike="noStrike" baseline="-25000">
                <a:solidFill>
                  <a:srgbClr val="003366"/>
                </a:solidFill>
                <a:latin typeface="Times New Roman"/>
              </a:rPr>
              <a:t>Potato</a:t>
            </a:r>
            <a:r>
              <a:rPr b="0" lang="en-US" sz="5400" spc="-1" strike="noStrike">
                <a:solidFill>
                  <a:srgbClr val="003366"/>
                </a:solidFill>
                <a:latin typeface="Times New Roman"/>
              </a:rPr>
              <a:t> Then</a:t>
            </a:r>
            <a:endParaRPr b="0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0" y="1828800"/>
            <a:ext cx="914400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3366"/>
                </a:solidFill>
                <a:latin typeface="Times New Roman"/>
              </a:rPr>
              <a:t>M</a:t>
            </a:r>
            <a:r>
              <a:rPr b="0" lang="en-US" sz="5400" spc="-1" strike="noStrike" baseline="-25000">
                <a:solidFill>
                  <a:srgbClr val="003366"/>
                </a:solidFill>
                <a:latin typeface="Times New Roman"/>
              </a:rPr>
              <a:t>gun/person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.</a:t>
            </a:r>
            <a:r>
              <a:rPr b="1" lang="en-US" sz="1800" spc="-1" strike="noStrike">
                <a:solidFill>
                  <a:srgbClr val="003366"/>
                </a:solidFill>
                <a:latin typeface="Times New Roman"/>
              </a:rPr>
              <a:t>v</a:t>
            </a:r>
            <a:r>
              <a:rPr b="0" lang="en-US" sz="1800" spc="-1" strike="noStrike" baseline="-25000">
                <a:solidFill>
                  <a:srgbClr val="003366"/>
                </a:solidFill>
                <a:latin typeface="Times New Roman"/>
              </a:rPr>
              <a:t>gun/person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=</a:t>
            </a: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m</a:t>
            </a:r>
            <a:r>
              <a:rPr b="0" lang="en-US" sz="1800" spc="-1" strike="noStrike" baseline="-25000">
                <a:solidFill>
                  <a:srgbClr val="003366"/>
                </a:solidFill>
                <a:latin typeface="Times New Roman"/>
              </a:rPr>
              <a:t>potatoe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.</a:t>
            </a:r>
            <a:r>
              <a:rPr b="1" lang="en-US" sz="5400" spc="-1" strike="noStrike">
                <a:solidFill>
                  <a:srgbClr val="003366"/>
                </a:solidFill>
                <a:latin typeface="Times New Roman"/>
              </a:rPr>
              <a:t>v</a:t>
            </a:r>
            <a:r>
              <a:rPr b="0" lang="en-US" sz="5400" spc="-1" strike="noStrike" baseline="-25000">
                <a:solidFill>
                  <a:srgbClr val="003366"/>
                </a:solidFill>
                <a:latin typeface="Times New Roman"/>
              </a:rPr>
              <a:t>potato</a:t>
            </a:r>
            <a:endParaRPr b="0" lang="en-US" sz="5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If the mass on the left of the equation is </a:t>
            </a:r>
            <a:r>
              <a:rPr b="1" i="1" lang="en-US" sz="3200" spc="-1" strike="noStrike" u="sng">
                <a:solidFill>
                  <a:srgbClr val="003366"/>
                </a:solidFill>
                <a:uFillTx/>
                <a:latin typeface="Times New Roman"/>
              </a:rPr>
              <a:t>large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 compared to the right, then the velocity on the right must be </a:t>
            </a:r>
            <a:r>
              <a:rPr b="1" i="1" lang="en-US" sz="3200" spc="-1" strike="noStrike" u="sng">
                <a:solidFill>
                  <a:srgbClr val="003366"/>
                </a:solidFill>
                <a:uFillTx/>
                <a:latin typeface="Times New Roman"/>
              </a:rPr>
              <a:t>large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 compared to the left if they are to be equal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20" name="" descr=""/>
          <p:cNvPicPr/>
          <p:nvPr/>
        </p:nvPicPr>
        <p:blipFill>
          <a:blip r:embed="rId1"/>
          <a:stretch/>
        </p:blipFill>
        <p:spPr>
          <a:xfrm>
            <a:off x="2590920" y="4343400"/>
            <a:ext cx="188568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1" name=""/>
          <p:cNvGrpSpPr/>
          <p:nvPr/>
        </p:nvGrpSpPr>
        <p:grpSpPr>
          <a:xfrm>
            <a:off x="1066680" y="685800"/>
            <a:ext cx="2362320" cy="1219320"/>
            <a:chOff x="1066680" y="685800"/>
            <a:chExt cx="2362320" cy="1219320"/>
          </a:xfrm>
        </p:grpSpPr>
        <p:sp>
          <p:nvSpPr>
            <p:cNvPr id="322" name=""/>
            <p:cNvSpPr/>
            <p:nvPr/>
          </p:nvSpPr>
          <p:spPr>
            <a:xfrm>
              <a:off x="1066680" y="685800"/>
              <a:ext cx="1600200" cy="914400"/>
            </a:xfrm>
            <a:prstGeom prst="rect">
              <a:avLst/>
            </a:prstGeom>
            <a:solidFill>
              <a:srgbClr val="cccc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2743200" y="1143000"/>
              <a:ext cx="685800" cy="457200"/>
            </a:xfrm>
            <a:prstGeom prst="rect">
              <a:avLst/>
            </a:prstGeom>
            <a:solidFill>
              <a:srgbClr val="cccc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219320" y="1523880"/>
              <a:ext cx="380880" cy="381240"/>
            </a:xfrm>
            <a:prstGeom prst="ellipse">
              <a:avLst/>
            </a:prstGeom>
            <a:solidFill>
              <a:srgbClr val="003366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057400" y="1523880"/>
              <a:ext cx="380880" cy="381240"/>
            </a:xfrm>
            <a:prstGeom prst="ellipse">
              <a:avLst/>
            </a:prstGeom>
            <a:solidFill>
              <a:srgbClr val="003366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2666880" y="1523880"/>
              <a:ext cx="381240" cy="381240"/>
            </a:xfrm>
            <a:prstGeom prst="ellipse">
              <a:avLst/>
            </a:prstGeom>
            <a:solidFill>
              <a:srgbClr val="003366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327" name=""/>
          <p:cNvSpPr/>
          <p:nvPr/>
        </p:nvSpPr>
        <p:spPr>
          <a:xfrm>
            <a:off x="4952880" y="1143000"/>
            <a:ext cx="914400" cy="380880"/>
          </a:xfrm>
          <a:prstGeom prst="ellipse">
            <a:avLst/>
          </a:prstGeom>
          <a:solidFill>
            <a:srgbClr val="0033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029200" y="1447920"/>
            <a:ext cx="228600" cy="152280"/>
          </a:xfrm>
          <a:prstGeom prst="ellipse">
            <a:avLst/>
          </a:prstGeom>
          <a:solidFill>
            <a:srgbClr val="0033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486400" y="1447920"/>
            <a:ext cx="228600" cy="152280"/>
          </a:xfrm>
          <a:prstGeom prst="ellipse">
            <a:avLst/>
          </a:prstGeom>
          <a:solidFill>
            <a:srgbClr val="0033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124080" y="838080"/>
            <a:ext cx="1143000" cy="0"/>
          </a:xfrm>
          <a:prstGeom prst="line">
            <a:avLst/>
          </a:prstGeom>
          <a:ln w="381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28600" y="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Before collision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28600" y="3200400"/>
            <a:ext cx="29718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After collision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The system has the same total momentum.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333" name=""/>
          <p:cNvGrpSpPr/>
          <p:nvPr/>
        </p:nvGrpSpPr>
        <p:grpSpPr>
          <a:xfrm>
            <a:off x="4876920" y="3581280"/>
            <a:ext cx="2361600" cy="1219320"/>
            <a:chOff x="4876920" y="3581280"/>
            <a:chExt cx="2361600" cy="1219320"/>
          </a:xfrm>
        </p:grpSpPr>
        <p:sp>
          <p:nvSpPr>
            <p:cNvPr id="334" name=""/>
            <p:cNvSpPr/>
            <p:nvPr/>
          </p:nvSpPr>
          <p:spPr>
            <a:xfrm>
              <a:off x="4876920" y="3581280"/>
              <a:ext cx="1599840" cy="914400"/>
            </a:xfrm>
            <a:prstGeom prst="rect">
              <a:avLst/>
            </a:prstGeom>
            <a:solidFill>
              <a:srgbClr val="cccc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6553080" y="4038480"/>
              <a:ext cx="685440" cy="457200"/>
            </a:xfrm>
            <a:prstGeom prst="rect">
              <a:avLst/>
            </a:prstGeom>
            <a:solidFill>
              <a:srgbClr val="cccc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4419360"/>
              <a:ext cx="380520" cy="381240"/>
            </a:xfrm>
            <a:prstGeom prst="ellipse">
              <a:avLst/>
            </a:prstGeom>
            <a:solidFill>
              <a:srgbClr val="003366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5867280" y="4419360"/>
              <a:ext cx="380520" cy="381240"/>
            </a:xfrm>
            <a:prstGeom prst="ellipse">
              <a:avLst/>
            </a:prstGeom>
            <a:solidFill>
              <a:srgbClr val="003366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476760" y="4419360"/>
              <a:ext cx="380880" cy="381240"/>
            </a:xfrm>
            <a:prstGeom prst="ellipse">
              <a:avLst/>
            </a:prstGeom>
            <a:solidFill>
              <a:srgbClr val="003366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339" name=""/>
          <p:cNvSpPr/>
          <p:nvPr/>
        </p:nvSpPr>
        <p:spPr>
          <a:xfrm>
            <a:off x="7238880" y="3657600"/>
            <a:ext cx="304920" cy="838080"/>
          </a:xfrm>
          <a:prstGeom prst="ellipse">
            <a:avLst/>
          </a:prstGeom>
          <a:solidFill>
            <a:srgbClr val="0033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162920" y="4419720"/>
            <a:ext cx="228600" cy="152280"/>
          </a:xfrm>
          <a:prstGeom prst="ellipse">
            <a:avLst/>
          </a:prstGeom>
          <a:solidFill>
            <a:srgbClr val="0033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7010280" y="3809880"/>
            <a:ext cx="228600" cy="152640"/>
          </a:xfrm>
          <a:prstGeom prst="ellipse">
            <a:avLst/>
          </a:prstGeom>
          <a:solidFill>
            <a:srgbClr val="0033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5638680" y="3429000"/>
            <a:ext cx="838440" cy="0"/>
          </a:xfrm>
          <a:prstGeom prst="line">
            <a:avLst/>
          </a:prstGeom>
          <a:ln w="381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04920" y="18288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0" y="198108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M=2000 kg, v = 5 m/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800600" y="19051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876920" y="198108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M = 500 kg, v = 0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3366"/>
                </a:solidFill>
                <a:latin typeface="Times New Roman"/>
              </a:rPr>
              <a:t>Impulse “J”</a:t>
            </a:r>
            <a:endParaRPr b="0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0" y="1905120"/>
            <a:ext cx="8796240" cy="37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9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By rewriting his own 2</a:t>
            </a:r>
            <a:r>
              <a:rPr b="0" lang="en-US" sz="3600" spc="-1" strike="noStrike" baseline="30000">
                <a:solidFill>
                  <a:srgbClr val="003366"/>
                </a:solidFill>
                <a:latin typeface="Times New Roman"/>
              </a:rPr>
              <a:t>nd</a:t>
            </a: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 law, Newton defined </a:t>
            </a: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impulse</a:t>
            </a:r>
            <a:br>
              <a:rPr sz="3600"/>
            </a:b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F</a:t>
            </a: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= m </a:t>
            </a:r>
            <a:r>
              <a:rPr b="1" lang="en-US" sz="3600" spc="-1" strike="noStrike" baseline="30000">
                <a:solidFill>
                  <a:srgbClr val="003366"/>
                </a:solidFill>
                <a:latin typeface="Times New Roman"/>
              </a:rPr>
              <a:t>. </a:t>
            </a: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a </a:t>
            </a: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=m </a:t>
            </a:r>
            <a:r>
              <a:rPr b="1" lang="en-US" sz="3600" spc="-1" strike="noStrike" baseline="30000">
                <a:solidFill>
                  <a:srgbClr val="003366"/>
                </a:solidFill>
                <a:latin typeface="Times New Roman"/>
              </a:rPr>
              <a:t>.</a:t>
            </a: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 </a:t>
            </a:r>
            <a:br>
              <a:rPr sz="3600"/>
            </a:b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       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9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F </a:t>
            </a:r>
            <a:r>
              <a:rPr b="1" lang="en-US" sz="3600" spc="-1" strike="noStrike" baseline="30000">
                <a:solidFill>
                  <a:srgbClr val="003366"/>
                </a:solidFill>
                <a:latin typeface="Times New Roman"/>
              </a:rPr>
              <a:t>. </a:t>
            </a: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t = m  </a:t>
            </a:r>
            <a:r>
              <a:rPr b="1" lang="en-US" sz="3600" spc="-1" strike="noStrike" baseline="30000">
                <a:solidFill>
                  <a:srgbClr val="003366"/>
                </a:solidFill>
                <a:latin typeface="Times New Roman"/>
              </a:rPr>
              <a:t>. </a:t>
            </a:r>
            <a:r>
              <a:rPr b="0" lang="en-US" sz="3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Δ</a:t>
            </a:r>
            <a:r>
              <a:rPr b="1" lang="en-US" sz="3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v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9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3300"/>
                </a:solidFill>
                <a:latin typeface="Times New Roman"/>
              </a:rPr>
              <a:t>J </a:t>
            </a: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=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F </a:t>
            </a:r>
            <a:r>
              <a:rPr b="1" lang="en-US" sz="3600" spc="-1" strike="noStrike" baseline="30000">
                <a:solidFill>
                  <a:srgbClr val="ff3300"/>
                </a:solidFill>
                <a:latin typeface="Times New Roman"/>
              </a:rPr>
              <a:t>. </a:t>
            </a: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t=  m</a:t>
            </a:r>
            <a:r>
              <a:rPr b="0" lang="en-US" sz="3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Δ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v </a:t>
            </a:r>
            <a:r>
              <a:rPr b="0" lang="en-US" sz="3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= Δ</a:t>
            </a:r>
            <a:r>
              <a:rPr b="1" i="1" lang="en-US" sz="3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p </a:t>
            </a:r>
            <a:r>
              <a:rPr b="0" lang="en-US" sz="3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=change in momentum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9" name=""/>
              <p:cNvSpPr txBox="1"/>
              <p:nvPr/>
            </p:nvSpPr>
            <p:spPr>
              <a:xfrm>
                <a:off x="3124080" y="3429000"/>
                <a:ext cx="69876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Δv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/>
          </p:nvPr>
        </p:nvSpPr>
        <p:spPr>
          <a:xfrm>
            <a:off x="609480" y="380880"/>
            <a:ext cx="795816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o the safest way to stop an object is to </a:t>
            </a: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stretch out the time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 it takes to stop things so you could use the smallest possible force.  That’s why if something is cushioned and soft it is less likely to break. 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51" name="" descr=""/>
          <p:cNvPicPr/>
          <p:nvPr/>
        </p:nvPicPr>
        <p:blipFill>
          <a:blip r:embed="rId1"/>
          <a:stretch/>
        </p:blipFill>
        <p:spPr>
          <a:xfrm>
            <a:off x="6553080" y="5105520"/>
            <a:ext cx="1752840" cy="1752480"/>
          </a:xfrm>
          <a:prstGeom prst="rect">
            <a:avLst/>
          </a:prstGeom>
          <a:ln w="0">
            <a:noFill/>
          </a:ln>
        </p:spPr>
      </p:pic>
      <p:sp>
        <p:nvSpPr>
          <p:cNvPr id="352" name=""/>
          <p:cNvSpPr/>
          <p:nvPr/>
        </p:nvSpPr>
        <p:spPr>
          <a:xfrm>
            <a:off x="7162920" y="3048120"/>
            <a:ext cx="457200" cy="4572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952880" y="3048120"/>
            <a:ext cx="457200" cy="4572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4191120" y="5334120"/>
            <a:ext cx="1981080" cy="1523880"/>
          </a:xfrm>
          <a:prstGeom prst="rect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" descr=""/>
          <p:cNvPicPr/>
          <p:nvPr/>
        </p:nvPicPr>
        <p:blipFill>
          <a:blip r:embed="rId1"/>
          <a:stretch/>
        </p:blipFill>
        <p:spPr>
          <a:xfrm>
            <a:off x="0" y="285840"/>
            <a:ext cx="9144000" cy="604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3366"/>
                </a:solidFill>
                <a:latin typeface="Times New Roman"/>
              </a:rPr>
              <a:t>Action/Reaction</a:t>
            </a:r>
            <a:endParaRPr b="0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subTitle"/>
          </p:nvPr>
        </p:nvSpPr>
        <p:spPr>
          <a:xfrm>
            <a:off x="1566720" y="2693520"/>
            <a:ext cx="6662880" cy="29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3366"/>
                </a:solidFill>
                <a:latin typeface="Times New Roman"/>
              </a:rPr>
              <a:t>Conservation of momentum is just a consequence of Newton’s third Law</a:t>
            </a:r>
            <a:endParaRPr b="0" lang="en-US" sz="6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040" y="837720"/>
            <a:ext cx="779292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Newton Again!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1981080"/>
            <a:ext cx="7772400" cy="415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Newton observed objects colliding and realized that two things dictate what it takes to change the motion of an object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1100"/>
              </a:spcBef>
              <a:buClr>
                <a:srgbClr val="003366"/>
              </a:buClr>
              <a:buSzPct val="5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3366"/>
                </a:solidFill>
                <a:uFillTx/>
                <a:latin typeface="Times New Roman"/>
              </a:rPr>
              <a:t>Mass</a:t>
            </a: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 (how much matter)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1100"/>
              </a:spcBef>
              <a:buClr>
                <a:srgbClr val="003366"/>
              </a:buClr>
              <a:buSzPct val="5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3366"/>
                </a:solidFill>
                <a:uFillTx/>
                <a:latin typeface="Times New Roman"/>
              </a:rPr>
              <a:t>Velocity</a:t>
            </a: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 (how fast it’s going in a given direction)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66"/>
                </a:solidFill>
                <a:latin typeface="Times New Roman"/>
              </a:rPr>
              <a:t>He Called This Momentum</a:t>
            </a:r>
            <a:endParaRPr b="0" lang="en-US" sz="4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1566720" y="2693520"/>
            <a:ext cx="6662880" cy="29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600" spc="-1" strike="noStrike">
                <a:solidFill>
                  <a:srgbClr val="003366"/>
                </a:solidFill>
                <a:latin typeface="Times New Roman"/>
              </a:rPr>
              <a:t>p</a:t>
            </a:r>
            <a:r>
              <a:rPr b="1" lang="en-US" sz="9600" spc="-1" strike="noStrike">
                <a:solidFill>
                  <a:srgbClr val="003366"/>
                </a:solidFill>
                <a:latin typeface="Times New Roman"/>
              </a:rPr>
              <a:t> = </a:t>
            </a:r>
            <a:r>
              <a:rPr b="0" lang="en-US" sz="9600" spc="-1" strike="noStrike">
                <a:solidFill>
                  <a:srgbClr val="003366"/>
                </a:solidFill>
                <a:latin typeface="Times New Roman"/>
              </a:rPr>
              <a:t>m</a:t>
            </a:r>
            <a:r>
              <a:rPr b="0" lang="en-US" sz="9600" spc="-1" strike="noStrike" baseline="30000">
                <a:solidFill>
                  <a:srgbClr val="003366"/>
                </a:solidFill>
                <a:latin typeface="Times New Roman"/>
              </a:rPr>
              <a:t>.</a:t>
            </a:r>
            <a:r>
              <a:rPr b="1" lang="en-US" sz="9600" spc="-1" strike="noStrike">
                <a:solidFill>
                  <a:srgbClr val="003366"/>
                </a:solidFill>
                <a:latin typeface="Times New Roman"/>
              </a:rPr>
              <a:t>v</a:t>
            </a:r>
            <a:endParaRPr b="0" lang="en-US" sz="96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3366"/>
                </a:solidFill>
                <a:latin typeface="Times New Roman"/>
              </a:rPr>
              <a:t>Impulse</a:t>
            </a:r>
            <a:endParaRPr b="0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958160" cy="37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By rewriting his own 2</a:t>
            </a:r>
            <a:r>
              <a:rPr b="0" lang="en-US" sz="3200" spc="-1" strike="noStrike" baseline="30000">
                <a:solidFill>
                  <a:srgbClr val="003366"/>
                </a:solidFill>
                <a:latin typeface="Times New Roman"/>
              </a:rPr>
              <a:t>nd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 law, Newton defined Impulse</a:t>
            </a:r>
            <a:br>
              <a:rPr sz="3200"/>
            </a:b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=m</a:t>
            </a:r>
            <a:r>
              <a:rPr b="1" lang="en-US" sz="3200" spc="-1" strike="noStrike" baseline="30000">
                <a:solidFill>
                  <a:srgbClr val="003366"/>
                </a:solidFill>
                <a:latin typeface="Times New Roman"/>
              </a:rPr>
              <a:t>.</a:t>
            </a: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=m</a:t>
            </a:r>
            <a:r>
              <a:rPr b="1" lang="en-US" sz="3200" spc="-1" strike="noStrike" baseline="30000">
                <a:solidFill>
                  <a:srgbClr val="003366"/>
                </a:solidFill>
                <a:latin typeface="Times New Roman"/>
              </a:rPr>
              <a:t>.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       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F</a:t>
            </a:r>
            <a:r>
              <a:rPr b="1" lang="en-US" sz="3200" spc="-1" strike="noStrike" baseline="30000">
                <a:solidFill>
                  <a:srgbClr val="003366"/>
                </a:solidFill>
                <a:latin typeface="Times New Roman"/>
              </a:rPr>
              <a:t>.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=m</a:t>
            </a:r>
            <a:r>
              <a:rPr b="1" lang="en-US" sz="3200" spc="-1" strike="noStrike" baseline="30000">
                <a:solidFill>
                  <a:srgbClr val="003366"/>
                </a:solidFill>
                <a:latin typeface="Times New Roman"/>
              </a:rPr>
              <a:t>.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Δ</a:t>
            </a:r>
            <a:r>
              <a:rPr b="1" lang="en-US" sz="32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v = IMPULSE “J”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66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=</a:t>
            </a: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F</a:t>
            </a:r>
            <a:r>
              <a:rPr b="1" lang="en-US" sz="3200" spc="-1" strike="noStrike" baseline="30000">
                <a:solidFill>
                  <a:srgbClr val="003366"/>
                </a:solidFill>
                <a:latin typeface="Times New Roman"/>
              </a:rPr>
              <a:t>.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= m</a:t>
            </a:r>
            <a:r>
              <a:rPr b="1" lang="en-US" sz="3200" spc="-1" strike="noStrike" baseline="30000">
                <a:solidFill>
                  <a:srgbClr val="003366"/>
                </a:solidFill>
                <a:latin typeface="Times New Roman"/>
              </a:rPr>
              <a:t>.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Δ</a:t>
            </a:r>
            <a:r>
              <a:rPr b="1" lang="en-US" sz="32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v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=Δ</a:t>
            </a:r>
            <a:r>
              <a:rPr b="1" i="1" lang="en-US" sz="32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p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=change in momentum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8" name=""/>
              <p:cNvSpPr txBox="1"/>
              <p:nvPr/>
            </p:nvSpPr>
            <p:spPr>
              <a:xfrm>
                <a:off x="2971800" y="3200400"/>
                <a:ext cx="51264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Δv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If a 5 N force pushes a 2 kg object  for 3 seconds, how much will the momentum change?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80880" y="2133720"/>
            <a:ext cx="83822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990720" y="3657600"/>
            <a:ext cx="69339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How much is the impulse?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How much will the speed change?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How much is the acceleration?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0" y="1045800"/>
            <a:ext cx="914400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3366"/>
                </a:solidFill>
                <a:latin typeface="Times New Roman"/>
              </a:rPr>
              <a:t>Conservation of Momentum</a:t>
            </a:r>
            <a:endParaRPr b="0" lang="en-US" sz="6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subTitle"/>
          </p:nvPr>
        </p:nvSpPr>
        <p:spPr>
          <a:xfrm>
            <a:off x="761760" y="2693520"/>
            <a:ext cx="7848360" cy="29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66"/>
                </a:solidFill>
                <a:latin typeface="Times New Roman"/>
              </a:rPr>
              <a:t>Let’s look at what happens to momentum before, during and after a collision/explosion.</a:t>
            </a:r>
            <a:endParaRPr b="0" lang="en-US" sz="4800" spc="-1" strike="noStrike">
              <a:solidFill>
                <a:srgbClr val="003366"/>
              </a:solidFill>
              <a:latin typeface="Times New Roman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3366"/>
                </a:solidFill>
                <a:latin typeface="Times New Roman"/>
              </a:rPr>
              <a:t>If </a:t>
            </a:r>
            <a:r>
              <a:rPr b="0" i="1" lang="en-US" sz="5400" spc="-1" strike="noStrike">
                <a:solidFill>
                  <a:srgbClr val="003366"/>
                </a:solidFill>
                <a:latin typeface="Times New Roman"/>
              </a:rPr>
              <a:t>p</a:t>
            </a:r>
            <a:r>
              <a:rPr b="0" lang="en-US" sz="5400" spc="-1" strike="noStrike" baseline="-25000">
                <a:solidFill>
                  <a:srgbClr val="003366"/>
                </a:solidFill>
                <a:latin typeface="Times New Roman"/>
              </a:rPr>
              <a:t>Gun/Emily</a:t>
            </a:r>
            <a:r>
              <a:rPr b="0" lang="en-US" sz="5400" spc="-1" strike="noStrike">
                <a:solidFill>
                  <a:srgbClr val="003366"/>
                </a:solidFill>
                <a:latin typeface="Times New Roman"/>
              </a:rPr>
              <a:t> = </a:t>
            </a:r>
            <a:r>
              <a:rPr b="0" i="1" lang="en-US" sz="5400" spc="-1" strike="noStrike">
                <a:solidFill>
                  <a:srgbClr val="003366"/>
                </a:solidFill>
                <a:latin typeface="Times New Roman"/>
              </a:rPr>
              <a:t>p</a:t>
            </a:r>
            <a:r>
              <a:rPr b="0" lang="en-US" sz="5400" spc="-1" strike="noStrike" baseline="-25000">
                <a:solidFill>
                  <a:srgbClr val="003366"/>
                </a:solidFill>
                <a:latin typeface="Times New Roman"/>
              </a:rPr>
              <a:t>Potato</a:t>
            </a:r>
            <a:r>
              <a:rPr b="0" lang="en-US" sz="5400" spc="-1" strike="noStrike">
                <a:solidFill>
                  <a:srgbClr val="003366"/>
                </a:solidFill>
                <a:latin typeface="Times New Roman"/>
              </a:rPr>
              <a:t> Then</a:t>
            </a:r>
            <a:endParaRPr b="0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0" y="2214360"/>
            <a:ext cx="91440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134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3366"/>
                </a:solidFill>
                <a:latin typeface="Times New Roman"/>
              </a:rPr>
              <a:t>M</a:t>
            </a:r>
            <a:r>
              <a:rPr b="0" lang="en-US" sz="5400" spc="-1" strike="noStrike" baseline="-25000">
                <a:solidFill>
                  <a:srgbClr val="003366"/>
                </a:solidFill>
                <a:latin typeface="Times New Roman"/>
              </a:rPr>
              <a:t>gun/Emily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.</a:t>
            </a:r>
            <a:r>
              <a:rPr b="1" lang="en-US" sz="1800" spc="-1" strike="noStrike">
                <a:solidFill>
                  <a:srgbClr val="003366"/>
                </a:solidFill>
                <a:latin typeface="Times New Roman"/>
              </a:rPr>
              <a:t>v</a:t>
            </a:r>
            <a:r>
              <a:rPr b="0" lang="en-US" sz="1800" spc="-1" strike="noStrike" baseline="-25000">
                <a:solidFill>
                  <a:srgbClr val="003366"/>
                </a:solidFill>
                <a:latin typeface="Times New Roman"/>
              </a:rPr>
              <a:t>gun/Emily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=</a:t>
            </a: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m</a:t>
            </a:r>
            <a:r>
              <a:rPr b="0" lang="en-US" sz="1800" spc="-1" strike="noStrike" baseline="-25000">
                <a:solidFill>
                  <a:srgbClr val="003366"/>
                </a:solidFill>
                <a:latin typeface="Times New Roman"/>
              </a:rPr>
              <a:t>potatoe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.</a:t>
            </a:r>
            <a:r>
              <a:rPr b="1" lang="en-US" sz="5400" spc="-1" strike="noStrike">
                <a:solidFill>
                  <a:srgbClr val="003366"/>
                </a:solidFill>
                <a:latin typeface="Times New Roman"/>
              </a:rPr>
              <a:t>v</a:t>
            </a:r>
            <a:r>
              <a:rPr b="0" lang="en-US" sz="5400" spc="-1" strike="noStrike" baseline="-25000">
                <a:solidFill>
                  <a:srgbClr val="003366"/>
                </a:solidFill>
                <a:latin typeface="Times New Roman"/>
              </a:rPr>
              <a:t>potato</a:t>
            </a:r>
            <a:endParaRPr b="0" lang="en-US" sz="5400" spc="-1" strike="noStrike">
              <a:solidFill>
                <a:srgbClr val="003366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10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If the mass on the left of the equation is </a:t>
            </a:r>
            <a:r>
              <a:rPr b="1" i="1" lang="en-US" sz="4800" spc="-1" strike="noStrike" u="sng">
                <a:solidFill>
                  <a:srgbClr val="003366"/>
                </a:solidFill>
                <a:uFillTx/>
                <a:latin typeface="Times New Roman"/>
              </a:rPr>
              <a:t>large</a:t>
            </a: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 compared to the right, then the velocity on the right must be </a:t>
            </a:r>
            <a:r>
              <a:rPr b="1" i="1" lang="en-US" sz="4800" spc="-1" strike="noStrike" u="sng">
                <a:solidFill>
                  <a:srgbClr val="003366"/>
                </a:solidFill>
                <a:uFillTx/>
                <a:latin typeface="Times New Roman"/>
              </a:rPr>
              <a:t>large</a:t>
            </a: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 compared to the left if they are to be equal.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3366"/>
                </a:solidFill>
                <a:latin typeface="Times New Roman"/>
              </a:rPr>
              <a:t>Action/Reaction</a:t>
            </a:r>
            <a:endParaRPr b="0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1566720" y="2693520"/>
            <a:ext cx="6662880" cy="29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3366"/>
                </a:solidFill>
                <a:latin typeface="Times New Roman"/>
              </a:rPr>
              <a:t>Conservation of momentum is just a consequence of Newton’s third Law</a:t>
            </a:r>
            <a:endParaRPr b="0" lang="en-US" sz="6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0" y="1045800"/>
            <a:ext cx="914400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3366"/>
                </a:solidFill>
                <a:latin typeface="Times New Roman"/>
              </a:rPr>
              <a:t>Conservation of Momentum</a:t>
            </a:r>
            <a:endParaRPr b="0" lang="en-US" sz="6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761760" y="2693520"/>
            <a:ext cx="7848360" cy="29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66"/>
                </a:solidFill>
                <a:latin typeface="Times New Roman"/>
              </a:rPr>
              <a:t>Let’s look at what happens to momentum before, during and after a collision/explosion.</a:t>
            </a:r>
            <a:endParaRPr b="0" lang="en-US" sz="4800" spc="-1" strike="noStrike">
              <a:solidFill>
                <a:srgbClr val="003366"/>
              </a:solidFill>
              <a:latin typeface="Times New Roman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8T22:22:59Z</dcterms:created>
  <dc:creator>James Keelty</dc:creator>
  <dc:description/>
  <dc:language>en-US</dc:language>
  <cp:lastModifiedBy>SOCSD</cp:lastModifiedBy>
  <dcterms:modified xsi:type="dcterms:W3CDTF">2011-02-07T13:44:42Z</dcterms:modified>
  <cp:revision>10</cp:revision>
  <dc:subject/>
  <dc:title>Impulse, Momentum and Conservation of Momentum</dc:title>
</cp:coreProperties>
</file>